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57B-2C66-43D2-B312-9F4A2BAF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D35-C89C-49ED-A07F-AEB53249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140-B674-4CB0-A34D-8962CD28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C5B-55F0-4746-B4E0-9F2C77E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5EC6-3053-4C4B-A6C2-CA896C28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C88-3373-4240-AFD8-6CBCE618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F18F-11CD-4F53-9892-67EB5D7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ADDB-8D66-420C-8EFA-C2C6A0CA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33B-27AA-4FB0-AE77-563B94D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09D-8579-4FBA-83BF-F01EDE0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F6F-E4CA-4DB4-A91C-F4B7AC7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239-75EA-469A-821B-6F14055C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FCC6-D716-4BD3-82F9-2567C65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730-5084-4620-9628-AB70636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B5EE-0BB8-415C-BE42-4694513A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888E-9322-4AE8-AC30-EA1CED4E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E35A-54A7-48A8-9B60-79C6DF79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E9A-AF34-4451-80B1-7A40DC4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17D-9735-4CA3-94A1-7D71564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9E0-E796-4755-A526-AE50DE1A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820-A745-463F-B80D-1F74D45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C2D-17A3-444D-BC2D-CA9D366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BE0-B02C-44FD-B167-642F531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4C8-6B6A-4C6E-8F10-92FF89B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C8C-0F29-40CC-A570-00099AE382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B53-E022-4D4B-9300-3D2B180F7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9932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Helping Our ELL Students Succeed: Finding the Right Setting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tasc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702.22:Seminar in Applied Theory and Researc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Table of Contents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roblem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Related Literatur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s 4 &amp;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Hypothe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ment of Prob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number of ELL students in our schools on the rise, educators struggle to find the right setting for our students to succeed. While Bilingual education can be a great option, it is not the only successful setting for ELL students. ESL settings can yield academic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http://www.minneapolis.edu/counselingandadvising/multiculturalstudentservices/mcsslogo.gif"/>
          <p:cNvPicPr/>
          <p:nvPr/>
        </p:nvPicPr>
        <p:blipFill>
          <a:blip r:embed="rId1"/>
          <a:stretch/>
        </p:blipFill>
        <p:spPr>
          <a:xfrm>
            <a:off x="3657600" y="4419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Literature- P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ctured English Immersion: Breakthrough in Teaching Limited- English- Proficient Stud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aker, 199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Effects of Integrated Language- Based Instruction in Elementary ESL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im, 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lerating Early Academic Oral English Development in Transitional Bilingual and Structured English Immersion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rby,Lara-Acecio, Kwok, Mathes, Tong, 2008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Literature- C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s of Bilingual and English as a Second Language Adaptations of Success for All on the Reading Achievement of Students Acquiring Engl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lavin, Madde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L Programs: Not “One Size Fits All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insfeld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tions in Reading Achievement among Spanish Speaking Children in Different Language Programs: Explanations and Confoun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ese, Goldberg, Saunders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ment of Hypoth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R1- Implementing ESL strategies and techniques with first grade ELL students with English only instruction will yield the same or greater reading levels than with instruction in the native languag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2204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, K. ( 1998). Structured English Immersion: Breakthrough in Teaching Limited- English-Profic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h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ta Kappan, Vol. 80 (3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99-2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han, R. Wilkinson, L. Muller, C. and Frisco, M. (2009). ESL Placement and Schools: Effects on Immigra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men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dara, P., Merino, B. (1993). Measuring the Outcomes of LEP Programs: Test Scores, Exit Rates, and Other Mythological Data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icy, 23 (2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55-3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Evaluation and Policy Analysis, Vol. 15 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20-3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dara, P., Merino, B. (1993). Measuring the Outcomes of LEP Programs: Test Scores, Exit Rates,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ythological Data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Evaluation and Policy Analysis, Vol. 15 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20-33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ingsfeld, A. (2009). ELL Programs: Not “One Size Fits All”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Kappa Delta Pi Record, Vol. 45 (4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-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by, B. Lara-Acecio, R. Kwok, O. Mathes, P. Tong, F. (2008). Accelerating Early Academic Oral English Develop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itional Bilingual and Structured English Immersion Program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Educational Researc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, Vol. 45 (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 1011-10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zen, J. (2008). Teaching English Language Learners in the Content Area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view of Education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arch, Vo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78 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10-10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, Y. (2008). The Effects of Integrated Language- Based Instruction in Elementary ESL Learnin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Moder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nguage Journal. 92 (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431-451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kinen, P. Blum, I. Bisson, S. Phillips, S. Creamer, T. Baker, T. (2000). Books Access, Shar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,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Models: The Effects of Supporting the Literacy Learning of Linguist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e Students in Sch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 Home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Educational Psychology, 92 (1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-3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se, L. Goldenberg, C. Saunders, W. (2006). Variations in Reading Achievement among Spanis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in Different Language Programs: Explanations and Confound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ementary School Journal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.106 (4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64- 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in, R. Madden, N. ( 2000). Effects of Bilingual and English as a Second Language Adaptations of Success for 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ding Achievement of Students Acquir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lish. Journal of Education for Students Placed at Ris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4 (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393-416 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Bill Ramakkan</cp:lastModifiedBy>
  <dcterms:modified xsi:type="dcterms:W3CDTF">2010-03-23T01:01:46Z</dcterms:modified>
  <cp:revision>16</cp:revision>
  <dc:subject/>
  <dc:title>Helping Our ELL Students Succeed: Finding the Right Setting</dc:title>
</cp:coreProperties>
</file>